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74E-43F9-47EA-B8C5-98CEDC1B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590-4F63-460D-B6FF-770E7422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A2A-6157-4C39-9819-B1DDE463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EDB-CBF1-4C0C-8F0D-DFD50BC4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A18-3DC4-40D2-9813-3FBA7530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8C6-D1DC-4E76-B679-5C3F06A8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00A2-BBBA-4B27-BCB6-2C8A0BF7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A41-6322-4581-8EF7-959BB473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F3E-1EE4-4530-8B2B-B7B07993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BC4E-527E-49DE-BECB-E5A90305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592-30F1-4E05-9575-FE7C07F9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43D-34C8-4DC8-8222-1AB79F87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32B9-F7F3-4DF1-8DF0-0712BDBCC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ngrade.com/" TargetMode="External"/><Relationship Id="rId2" Type="http://schemas.openxmlformats.org/officeDocument/2006/relationships/hyperlink" Target="http://www.engrade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gr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5029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ngrade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rcRect l="1851" t="14814" r="1851" b="46672"/>
          <a:stretch/>
        </p:blipFill>
        <p:spPr>
          <a:xfrm>
            <a:off x="609480" y="304920"/>
            <a:ext cx="7925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0909" t="14545" r="12728" b="6911"/>
          <a:stretch/>
        </p:blipFill>
        <p:spPr>
          <a:xfrm>
            <a:off x="457200" y="1752480"/>
            <a:ext cx="8153280" cy="4805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on “Student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on “Sign Up – It’s Free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1874" t="14998" r="12500" b="24002"/>
          <a:stretch/>
        </p:blipFill>
        <p:spPr>
          <a:xfrm>
            <a:off x="457200" y="1338120"/>
            <a:ext cx="82296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 Access Code He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6876" t="14998" r="6876" b="29468"/>
          <a:stretch/>
        </p:blipFill>
        <p:spPr>
          <a:xfrm>
            <a:off x="457200" y="167652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666880" y="32767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the “Student Sign-U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0000" t="14998" r="11252" b="35004"/>
          <a:stretch/>
        </p:blipFill>
        <p:spPr>
          <a:xfrm>
            <a:off x="457200" y="1371600"/>
            <a:ext cx="8229600" cy="4756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57150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name must be “firstnamelastnamestudentnumb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 &amp; Sub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2403" t="14417" r="13956" b="38452"/>
          <a:stretch/>
        </p:blipFill>
        <p:spPr>
          <a:xfrm>
            <a:off x="1447920" y="3581280"/>
            <a:ext cx="7238880" cy="2895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12500" t="14998" r="48127" b="40002"/>
          <a:stretch/>
        </p:blipFill>
        <p:spPr>
          <a:xfrm>
            <a:off x="304920" y="1523880"/>
            <a:ext cx="40384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6:11:03Z</dcterms:created>
  <dc:creator>CEC158</dc:creator>
  <dc:description/>
  <dc:language>en-US</dc:language>
  <cp:lastModifiedBy>CEC158</cp:lastModifiedBy>
  <dcterms:modified xsi:type="dcterms:W3CDTF">2010-08-02T18:19:09Z</dcterms:modified>
  <cp:revision>2</cp:revision>
  <dc:subject/>
  <dc:title>Engrade</dc:title>
</cp:coreProperties>
</file>